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50CC-FD7A-4695-BAB9-982826C9E9F9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6768-E797-4B68-9FFD-64FEF81F231E}" type="slidenum">
              <a:rPr b="0" lang="ro-R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ifici firma care te angajeaza, la Registrul Comertului (date de inregistrare, obiect de activitate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A373-ED33-49B0-B366-7B23279BF733}" type="slidenum">
              <a:rPr b="0" lang="ro-R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A3C7-BB47-492D-B120-B75BE7AA4418}" type="slidenum">
              <a:rPr b="0" lang="ro-R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E243-1188-48D3-9D0A-554714AAF5B1}" type="slidenum">
              <a:rPr b="0" lang="ro-R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00E2-9822-4B0C-81EE-74031ACAE826}" type="slidenum">
              <a:rPr b="0" lang="ro-RO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07C3-7136-463B-A2EE-6050F754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0D27-6784-487F-86DA-783569FC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C911-26D5-42BF-B23C-0C0EC209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157-00A7-4731-A5A2-3E518A22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F87F-65D7-42AE-8658-33A3DC51D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CB3C-8B00-4868-AAF1-BEAEC4C8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135D-F770-4FFC-9158-BF40F12F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0597-1BD0-4708-8B41-3E665DE7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71FD-0DC2-4BA4-A533-789C8966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9D05-EE42-4898-9445-6544758F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28F8-11C5-44A9-BE9C-86FF75395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065-4883-4386-8894-EEE12835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DE03-CCA0-4017-8153-435484E9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A5B5-8526-479F-9CFE-C6E3AFD8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61DE-19F0-40A3-AF05-D37126A7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1982-33C4-42B2-9B19-932FF4F7D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C14E-E9E9-4953-892B-DA0ED6F2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A9298-BDDF-4977-BB6C-CB62F0A0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FB780-64E8-4B63-94B5-163294B7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49BB-E34C-41CF-AC9F-4AF13623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8760-F30A-4549-ADB0-500C7AAF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E5E1-9DA6-4BDC-999F-F303CFF1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861-C9A3-4DDE-BC00-CF87C877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C389F-6F6D-44B2-8E04-4FB235B0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AE84-5AD8-4357-B869-E7C8D756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25C68-6E33-4C81-8C12-5832BC93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3E8E6-57A8-45C2-B3E8-BE74074D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F76B9-3462-4793-AA36-424BDF78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0BD67-ACBE-4732-A01A-EB4C8E82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2467-7987-427B-AD09-178736BD9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E3D29-B1B1-41B0-A58B-1336F495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EE91-F67D-4A31-9A02-9C809C59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EBBD-D377-45CD-AADD-D63AB598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2C78-D443-4E59-9A5D-F748CA86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EA12B-3CE0-49C2-81F4-6C7E3A30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FA0D3-03EB-429B-85C3-FE159727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7D5F-862F-4A45-82E2-478AD4DD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E227F-9981-4F44-919D-53014E50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AF4B5-EAF8-4B79-9DB6-ED6EEE0C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2D075-0434-47AB-B90F-364BE99C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B75A1-BCBC-4255-901C-D39CD8C4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0F0A-FCF2-4D4E-9873-2FCB2331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131B9-EFBA-4433-B1B9-BBE78F7B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25F3D-1E63-4582-9D5F-A3C19BEB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3113-4161-49EE-A0EA-D5CCCD33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79E3-60F8-467F-96C2-5127C277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5F3AA-919D-4255-8679-92AB03F7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14282-231F-4508-94BD-77F2F75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5798F-7F07-4658-A4AE-6C6FBF6F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ABDB6-D9EA-4CF8-A8DC-F0122D64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7A0A1-6F45-4E82-9E22-64B495F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CB310-8B18-4F97-863A-1F819540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D24A5-6E0E-45D6-B6E4-BF049C44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2052-1DEF-491B-AD6D-0263DD51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9E1A9-A008-4371-93CF-C5D7D2AC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E29-21F4-4D11-8C64-DBB79C72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A5E01-60B0-4A0F-B09D-473B39AEC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DC508-11E2-4A6A-9356-54579CCB6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DAD1C-98A4-43A5-9E8A-1A0453C0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88415-812F-414C-9251-491B7217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F17D3-BE96-4B03-801E-EE78C08D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F832-9E8A-43DB-8BAB-7725958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A979F-8712-4BB4-953E-2493ACE5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DEA2F-6F0F-4E15-88AD-5A48512F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1E202-79A9-49D3-BC30-37208643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C9B26-CA51-4495-94F5-F8DAC5C7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1A0-C199-4B3E-A1CD-E0FDDD83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9FC3B-B42A-407D-A83A-697F829F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EF2E5-CDAE-4482-8413-AD29EFA4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23159-2EE9-4306-850F-2BA506F6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BB5A0-5655-4EDD-B1EA-9FE3394A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A5903-79C5-4BAA-9EF9-E5A7B62B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990AB-9695-456F-8C26-E9CE0FA8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CD222-5EA4-44DD-86D4-ABD025DE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57FF3-F0C8-40B0-A676-37986788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899C-B055-477A-8A4D-72A135C8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BBAC4-1324-439F-B81A-357246A9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3A69-7A34-4164-A7BC-2F9411A5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02FFD-7616-4403-8CD9-35BE06A2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24C5C-5092-4796-A073-9E4DD9C6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7BD1F-4159-4204-8AAC-CD4FB7BE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E3F5B-9FDC-43C0-B4A6-C7B63494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F33C4-6082-4E20-AC59-E392092D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BB06F-5753-4917-8F17-A9EF3791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D6140-CA20-4F15-9619-E21A1FF9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659F2A-6B92-4E04-942C-CA43764C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7BD0E-5124-483A-81CC-73C52F75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373C1-2612-4254-A71A-72077C99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180-485C-4637-B527-E80D6588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15786-E057-4E65-B13E-B924851E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447A8-5D2B-4452-98E7-EBB64ADF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43F9C7-667C-4864-BF90-A50B4794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80349-4858-4BBC-AAD1-5310A6AC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64617-0649-42CA-B594-E870D169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C82B7-943A-4268-8E1D-4F3A5E78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077713-799E-4C82-B221-7EFAC0CD5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e9e5dc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2A2D-509E-47EA-8BF3-D14599F8100D}" type="slidenum">
              <a:rPr b="0" lang="ro-RO" sz="1200" spc="-1" strike="noStrike">
                <a:solidFill>
                  <a:srgbClr val="e9e5dc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hape 43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hape 35"/>
          <p:cNvSpPr/>
          <p:nvPr/>
        </p:nvSpPr>
        <p:spPr>
          <a:xfrm>
            <a:off x="4821120" y="1066680"/>
            <a:ext cx="4343400" cy="579132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9b2d1f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hape 42"/>
          <p:cNvSpPr/>
          <p:nvPr/>
        </p:nvSpPr>
        <p:spPr>
          <a:xfrm>
            <a:off x="290520" y="-14400"/>
            <a:ext cx="5562720" cy="6553440"/>
          </a:xfrm>
          <a:custGeom>
            <a:avLst/>
            <a:gdLst>
              <a:gd name="textAreaLeft" fmla="*/ 0 w 5562720"/>
              <a:gd name="textAreaRight" fmla="*/ 5563080 w 5562720"/>
              <a:gd name="textAreaTop" fmla="*/ 0 h 6553440"/>
              <a:gd name="textAreaBottom" fmla="*/ 6553800 h 655344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9b2d1f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hape 21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hape 23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hape 25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hape 26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b62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5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6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e9e5dc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B8DEF-0B8F-4884-9109-35BDF2BDE261}" type="slidenum">
              <a:rPr b="0" lang="ro-RO" sz="1200" spc="-1" strike="noStrike">
                <a:solidFill>
                  <a:srgbClr val="e9e5dc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e9e5dc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422D-2D59-4540-A10B-4A17B425FA4F}" type="slidenum">
              <a:rPr b="0" lang="ro-RO" sz="1200" spc="-1" strike="noStrike">
                <a:solidFill>
                  <a:srgbClr val="e9e5dc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>
            <a:off x="4570560" y="1601640"/>
            <a:ext cx="2880" cy="4534200"/>
          </a:xfrm>
          <a:prstGeom prst="line">
            <a:avLst/>
          </a:prstGeom>
          <a:ln w="9360">
            <a:solidFill>
              <a:srgbClr val="731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696464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696464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696464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2091-5F49-4777-89DF-96C5B842C1A3}" type="slidenum">
              <a:rPr b="0" lang="ro-RO" sz="1200" spc="-1" strike="noStrike">
                <a:solidFill>
                  <a:srgbClr val="696464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2"/>
          <p:cNvSpPr/>
          <p:nvPr/>
        </p:nvSpPr>
        <p:spPr>
          <a:xfrm>
            <a:off x="0" y="401760"/>
            <a:ext cx="8686800" cy="887400"/>
          </a:xfrm>
          <a:prstGeom prst="rect">
            <a:avLst/>
          </a:prstGeom>
          <a:solidFill>
            <a:srgbClr val="6b62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e9e5dc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7DCB-45CD-4BDC-8675-FAAEAC241BA0}" type="slidenum">
              <a:rPr b="0" lang="ro-RO" sz="1200" spc="-1" strike="noStrike">
                <a:solidFill>
                  <a:srgbClr val="e9e5dc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e9e5dc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C855-E29A-4A63-AFEC-EB1DE6090823}" type="slidenum">
              <a:rPr b="0" lang="ro-RO" sz="1200" spc="-1" strike="noStrike">
                <a:solidFill>
                  <a:srgbClr val="e9e5dc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e9e5dc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DF49-9F78-46A8-B8EB-C9522781C122}" type="slidenum">
              <a:rPr b="0" lang="ro-RO" sz="1200" spc="-1" strike="noStrike">
                <a:solidFill>
                  <a:srgbClr val="e9e5dc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Group 17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68" name="Straight Connector 14"/>
            <p:cNvSpPr/>
            <p:nvPr/>
          </p:nvSpPr>
          <p:spPr>
            <a:xfrm>
              <a:off x="8573760" y="12175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Straight Connector 15"/>
            <p:cNvSpPr/>
            <p:nvPr/>
          </p:nvSpPr>
          <p:spPr>
            <a:xfrm>
              <a:off x="8516520" y="12826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Straight Connector 16"/>
            <p:cNvSpPr/>
            <p:nvPr/>
          </p:nvSpPr>
          <p:spPr>
            <a:xfrm flipV="1">
              <a:off x="8573760" y="12823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7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72" name="Straight Connector 10"/>
            <p:cNvSpPr/>
            <p:nvPr/>
          </p:nvSpPr>
          <p:spPr>
            <a:xfrm>
              <a:off x="8726760" y="137016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Straight Connector 11"/>
            <p:cNvSpPr/>
            <p:nvPr/>
          </p:nvSpPr>
          <p:spPr>
            <a:xfrm>
              <a:off x="8669520" y="1435320"/>
              <a:ext cx="101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Straight Connector 12"/>
            <p:cNvSpPr/>
            <p:nvPr/>
          </p:nvSpPr>
          <p:spPr>
            <a:xfrm flipV="1">
              <a:off x="8726760" y="143496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76" name="Straight Connector 18"/>
            <p:cNvSpPr/>
            <p:nvPr/>
          </p:nvSpPr>
          <p:spPr>
            <a:xfrm>
              <a:off x="8378640" y="1473120"/>
              <a:ext cx="712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Straight Connector 19"/>
            <p:cNvSpPr/>
            <p:nvPr/>
          </p:nvSpPr>
          <p:spPr>
            <a:xfrm>
              <a:off x="8321400" y="1538280"/>
              <a:ext cx="100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Straight Connector 20"/>
            <p:cNvSpPr/>
            <p:nvPr/>
          </p:nvSpPr>
          <p:spPr>
            <a:xfrm flipV="1">
              <a:off x="8378640" y="1537920"/>
              <a:ext cx="712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1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100" spc="-1" strike="noStrike">
                <a:solidFill>
                  <a:srgbClr val="e9e5dc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e9e5dc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A1F5-F65F-444A-A1EC-847BF6D81014}" type="slidenum">
              <a:rPr b="0" lang="ro-RO" sz="1200" spc="-1" strike="noStrike">
                <a:solidFill>
                  <a:srgbClr val="e9e5dc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V0N5Y0e4YQ&amp;NR=1" TargetMode="External"/><Relationship Id="rId2" Type="http://schemas.openxmlformats.org/officeDocument/2006/relationships/hyperlink" Target="http://www.youtube.com/watch?v=b9yMy096VuI" TargetMode="External"/><Relationship Id="rId3" Type="http://schemas.openxmlformats.org/officeDocument/2006/relationships/hyperlink" Target="http://www.youtube.com/watch?v=WNgMowg-oNY" TargetMode="External"/><Relationship Id="rId4" Type="http://schemas.openxmlformats.org/officeDocument/2006/relationships/hyperlink" Target="http://www.youtube.com/watch?v=m56Wl9WK1RE&amp;feature=related" TargetMode="External"/><Relationship Id="rId5" Type="http://schemas.openxmlformats.org/officeDocument/2006/relationships/hyperlink" Target="http://www.youtube.com/watch?v=dmfJgkHYyoo" TargetMode="External"/><Relationship Id="rId6" Type="http://schemas.openxmlformats.org/officeDocument/2006/relationships/hyperlink" Target="http://www.youtube.com/watch?v=pV0N5Y0e4YQ&amp;NR=1" TargetMode="External"/><Relationship Id="rId7" Type="http://schemas.openxmlformats.org/officeDocument/2006/relationships/hyperlink" Target="http://www.youtube.com/watch?v=pV0N5Y0e4YQ&amp;NR=1" TargetMode="External"/><Relationship Id="rId8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472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Corbel"/>
              </a:rPr>
              <a:t>TRAFICUL DE PERSOANE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809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rbel"/>
              </a:rPr>
              <a:t>INSEAMNA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44720" y="1809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b2d1f"/>
                </a:solidFill>
                <a:latin typeface="Corbel"/>
              </a:rPr>
              <a:t>pri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CRUTARE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NSPORTARE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NSFERARE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APOSTIREA\SA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MIREA DE PERSOAN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4472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menintare sau utilizarea fortei sau a altor mijloace de contrang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apire, frauda, inselaciune sau abuz de put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area sau primirea de bani sau de beneficii pentru  obtinerea consimtamantului unei persoan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C:\Users\Miki\Pictures\64044-0-trafic_de_persoane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Users\Miki\Pictures\trafic-de-persoane.jpg"/>
          <p:cNvPicPr/>
          <p:nvPr/>
        </p:nvPicPr>
        <p:blipFill>
          <a:blip r:embed="rId1"/>
          <a:stretch/>
        </p:blipFill>
        <p:spPr>
          <a:xfrm>
            <a:off x="539640" y="35100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0e8d5"/>
                </a:solidFill>
                <a:latin typeface="Corbel"/>
              </a:rPr>
              <a:t>CARACTERISTRICI ALE PERSOANELOR TRAFICATE</a:t>
            </a:r>
            <a:endParaRPr b="0" lang="en-US" sz="28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raiesc in saracie, au familii dezorganizate si un climat familial abuziv (cu certuri, batai, consum excesiv de alcool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u un nivel scazut de educatie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unt izolate de retele sociale de sprijin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( biserica, autoritati locale, familie, prieteni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Nu au o meserie (o profesie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unt naive si cred cu usurinta in promisiuni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u un anturaj nepotrivit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Fac parte din categorii vulnerabile  (copii, mame singure, someri, persoane cu handicap etc.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Nu au acces la asistenta medicala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unt abuzate  sexual si / violentate, intimidate, amenintate, infomet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i se fac promisiuni de plata care nu sunt respect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unt amagite ca vor fi lasate in libertate pentru a fi fortate sa se supuna cerinte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e sunt amenintate familiile, in caz de nesupuner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e8d5"/>
                </a:solidFill>
                <a:latin typeface="Corbel"/>
              </a:rPr>
              <a:t>CONDITII DE VIATA PENTRU </a:t>
            </a:r>
            <a:br>
              <a:rPr sz="3200"/>
            </a:br>
            <a:r>
              <a:rPr b="1" lang="en-US" sz="3200" spc="-1" strike="noStrike">
                <a:solidFill>
                  <a:srgbClr val="f0e8d5"/>
                </a:solidFill>
                <a:latin typeface="Corbel"/>
              </a:rPr>
              <a:t>VICTIMELE TRAFICULUI DE PERSOANE </a:t>
            </a:r>
            <a:br>
              <a:rPr sz="2400"/>
            </a:br>
            <a:endParaRPr b="0" lang="en-US" sz="3200" spc="-1" strike="noStrike">
              <a:solidFill>
                <a:srgbClr val="f0e8d5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Diagram 8" descr=""/>
          <p:cNvPicPr/>
          <p:nvPr/>
        </p:nvPicPr>
        <p:blipFill>
          <a:blip r:embed="rId1"/>
          <a:stretch/>
        </p:blipFill>
        <p:spPr>
          <a:xfrm>
            <a:off x="42840" y="208080"/>
            <a:ext cx="9747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Diagram 8" descr=""/>
          <p:cNvPicPr/>
          <p:nvPr/>
        </p:nvPicPr>
        <p:blipFill>
          <a:blip r:embed="rId1"/>
          <a:stretch/>
        </p:blipFill>
        <p:spPr>
          <a:xfrm>
            <a:off x="963720" y="133200"/>
            <a:ext cx="674208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Content Placeholder 4" descr=""/>
          <p:cNvPicPr/>
          <p:nvPr/>
        </p:nvPicPr>
        <p:blipFill>
          <a:blip r:embed="rId1"/>
          <a:stretch/>
        </p:blipFill>
        <p:spPr>
          <a:xfrm>
            <a:off x="676440" y="-73080"/>
            <a:ext cx="845496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9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Daca ti se propune sa pleci peste hotare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651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cu acte false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sau in mod ilegal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Corbel"/>
              </a:rPr>
              <a:t>esti in pericol!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60" name="Picture 3" descr="C:\Users\Miki\Pictures\images.jpg"/>
          <p:cNvPicPr/>
          <p:nvPr/>
        </p:nvPicPr>
        <p:blipFill>
          <a:blip r:embed="rId1"/>
          <a:stretch/>
        </p:blipFill>
        <p:spPr>
          <a:xfrm>
            <a:off x="4572000" y="1628640"/>
            <a:ext cx="3241800" cy="2232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" descr="C:\Users\Miki\Pictures\imagesCAH0SLMG.jpg"/>
          <p:cNvPicPr/>
          <p:nvPr/>
        </p:nvPicPr>
        <p:blipFill>
          <a:blip r:embed="rId2"/>
          <a:stretch/>
        </p:blipFill>
        <p:spPr>
          <a:xfrm>
            <a:off x="4932360" y="4149720"/>
            <a:ext cx="29275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00b0f0"/>
                </a:solidFill>
                <a:latin typeface="Arial"/>
              </a:rPr>
              <a:t>6 Paşi pentru a nu deveni o victimă a traficului de persoane</a:t>
            </a:r>
            <a:br>
              <a:rPr sz="2400"/>
            </a:br>
            <a:br>
              <a:rPr sz="3600"/>
            </a:br>
            <a:endParaRPr b="0" lang="en-US" sz="24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052640"/>
            <a:ext cx="2514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ff"/>
                </a:solidFill>
                <a:latin typeface="Corbel"/>
              </a:rPr>
              <a:t>Pasul 1. Ţi s-a făcut o propunere?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orbel"/>
              </a:rPr>
              <a:t>Pasul 2. Te-ai hotărât să pleci?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700" spc="-1" strike="noStrike">
                <a:solidFill>
                  <a:srgbClr val="ffffff"/>
                </a:solidFill>
                <a:latin typeface="Corbel"/>
              </a:rPr>
              <a:t>Pasul 3. Ţi s-a oferit sprijin la plecare?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ffffff"/>
                </a:solidFill>
                <a:latin typeface="Corbel"/>
              </a:rPr>
              <a:t>Pasul 4. Eşti deja în pericol?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700" spc="-1" strike="noStrike">
                <a:solidFill>
                  <a:srgbClr val="ffffff"/>
                </a:solidFill>
                <a:latin typeface="Arial"/>
              </a:rPr>
              <a:t>Pasul 5. Cum îţi dai seama că o persoană este victimă a traficului de fiinţe umane?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700" spc="-1" strike="noStrike">
                <a:solidFill>
                  <a:srgbClr val="ffffff"/>
                </a:solidFill>
                <a:latin typeface="Arial"/>
              </a:rPr>
              <a:t>Pasul 6. Cui te poţi adresa pentru a ajuta o victimă a traficului de persoane?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54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347640" y="980640"/>
            <a:ext cx="5567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4800" indent="-447840">
              <a:lnSpc>
                <a:spcPct val="80000"/>
              </a:lnSpc>
              <a:spcBef>
                <a:spcPts val="700"/>
              </a:spcBef>
              <a:buClr>
                <a:srgbClr val="00b0f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4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u fi naiv, verifică în detaliu orice ofertă primită!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buClr>
                <a:srgbClr val="00b0f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Arial Black"/>
                <a:hlinkClick r:id="rId2"/>
              </a:rPr>
              <a:t>2. </a:t>
            </a:r>
            <a:r>
              <a:rPr b="0" lang="vi-VN" sz="14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Lasă cât mai multe informaţii familiei!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 u="sng">
                <a:solidFill>
                  <a:srgbClr val="cc9900"/>
                </a:solidFill>
                <a:uFillTx/>
                <a:latin typeface="Arial Black"/>
                <a:hlinkClick r:id="rId4"/>
              </a:rPr>
              <a:t>3. Nu da nimănui actele de identitate!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9900"/>
                </a:solidFill>
                <a:uFillTx/>
                <a:latin typeface="Arial Black"/>
                <a:hlinkClick r:id="rId5"/>
              </a:rPr>
              <a:t>4. </a:t>
            </a:r>
            <a:r>
              <a:rPr b="0" lang="vi-VN" sz="1400" spc="-1" strike="noStrike" u="sng">
                <a:solidFill>
                  <a:srgbClr val="cc9900"/>
                </a:solidFill>
                <a:uFillTx/>
                <a:latin typeface="Arial"/>
                <a:hlinkClick r:id="rId6"/>
              </a:rPr>
              <a:t>Cere ajutorul oricărei persoane cu care intri în co</a:t>
            </a:r>
            <a:r>
              <a:rPr b="0" lang="vi-VN" sz="1400" spc="-1" strike="noStrike" u="sng">
                <a:solidFill>
                  <a:srgbClr val="cc9900"/>
                </a:solidFill>
                <a:uFillTx/>
                <a:latin typeface="Arial"/>
                <a:hlinkClick r:id="rId7"/>
              </a:rPr>
              <a:t>ntact!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f0"/>
                </a:solidFill>
                <a:latin typeface="Arial Black"/>
              </a:rPr>
              <a:t>5. </a:t>
            </a:r>
            <a:r>
              <a:rPr b="0" lang="ro-RO" sz="1400" spc="-1" strike="noStrike">
                <a:solidFill>
                  <a:srgbClr val="00b0f0"/>
                </a:solidFill>
                <a:latin typeface="Arial Black"/>
              </a:rPr>
              <a:t>Nu ignora problemele celor din jur!</a:t>
            </a:r>
            <a:r>
              <a:rPr b="0" lang="en-US" sz="1400" spc="-1" strike="noStrike">
                <a:solidFill>
                  <a:srgbClr val="00b0f0"/>
                </a:solidFill>
                <a:latin typeface="Arial Black"/>
              </a:rPr>
              <a:t> ( daca este molestata, lipsita de libertate, insotita permanent… inseamna ca e in pericol)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f0"/>
                </a:solidFill>
                <a:latin typeface="Arial Black"/>
              </a:rPr>
              <a:t>6.  </a:t>
            </a:r>
            <a:r>
              <a:rPr b="1" lang="en-US" sz="1800" spc="-1" strike="noStrike">
                <a:solidFill>
                  <a:srgbClr val="00b0f0"/>
                </a:solidFill>
                <a:latin typeface="Arial Black"/>
              </a:rPr>
              <a:t>- </a:t>
            </a:r>
            <a:r>
              <a:rPr b="1" lang="vi-VN" sz="1800" spc="-1" strike="noStrike">
                <a:solidFill>
                  <a:srgbClr val="00b050"/>
                </a:solidFill>
                <a:latin typeface="Arial"/>
              </a:rPr>
              <a:t>Liniei Telverde 0 800 800 678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 Black"/>
              </a:rPr>
              <a:t>      </a:t>
            </a:r>
            <a:r>
              <a:rPr b="1" lang="en-US" sz="1800" spc="-1" strike="noStrike">
                <a:solidFill>
                  <a:srgbClr val="00b0f0"/>
                </a:solidFill>
                <a:latin typeface="Arial Black"/>
              </a:rPr>
              <a:t>- </a:t>
            </a:r>
            <a:r>
              <a:rPr b="1" lang="vi-VN" sz="1800" spc="-1" strike="noStrike">
                <a:solidFill>
                  <a:srgbClr val="00b0f0"/>
                </a:solidFill>
                <a:latin typeface="Arial"/>
              </a:rPr>
              <a:t>organizaţiilor neguvernamental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 Black"/>
              </a:rPr>
              <a:t>       </a:t>
            </a:r>
            <a:r>
              <a:rPr b="1" lang="en-US" sz="1800" spc="-1" strike="noStrike">
                <a:solidFill>
                  <a:srgbClr val="00b0f0"/>
                </a:solidFill>
                <a:latin typeface="Arial Black"/>
              </a:rPr>
              <a:t>- </a:t>
            </a:r>
            <a:r>
              <a:rPr b="1" lang="vi-VN" sz="1800" spc="-1" strike="noStrike">
                <a:solidFill>
                  <a:srgbClr val="00b0f0"/>
                </a:solidFill>
                <a:latin typeface="Arial"/>
              </a:rPr>
              <a:t>Poliţiei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 Black"/>
              </a:rPr>
              <a:t>        </a:t>
            </a:r>
            <a:r>
              <a:rPr b="1" lang="en-US" sz="1800" spc="-1" strike="noStrike">
                <a:solidFill>
                  <a:srgbClr val="00b0f0"/>
                </a:solidFill>
                <a:latin typeface="Arial Black"/>
              </a:rPr>
              <a:t>- </a:t>
            </a:r>
            <a:r>
              <a:rPr b="1" lang="vi-VN" sz="1800" spc="-1" strike="noStrike">
                <a:solidFill>
                  <a:srgbClr val="00b0f0"/>
                </a:solidFill>
                <a:latin typeface="Arial"/>
              </a:rPr>
              <a:t>misiunilor diplomatice ale României în străinătat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514800" indent="-447840">
              <a:lnSpc>
                <a:spcPct val="80000"/>
              </a:lnSpc>
              <a:spcBef>
                <a:spcPts val="700"/>
              </a:spcBef>
              <a:buClr>
                <a:srgbClr val="00b0f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:\Users\Miki\Pictures\trafic_de_persoane.jpg"/>
          <p:cNvPicPr/>
          <p:nvPr/>
        </p:nvPicPr>
        <p:blipFill>
          <a:blip r:embed="rId1"/>
          <a:stretch/>
        </p:blipFill>
        <p:spPr>
          <a:xfrm>
            <a:off x="1258920" y="907920"/>
            <a:ext cx="6610320" cy="50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CONSTITUIE: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 incalcare grava a drepturilor omului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 infractiune in care victimele sunt tratate ca bunuri si vandute pentru obtinerea de profit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 fenomen de amploare care ne poate afecta pe oricare dintre noi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Bibliografie: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rbel"/>
              </a:rPr>
              <a:t>Materiale de la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rbel"/>
              </a:rPr>
              <a:t>AGENTIA NATIONALA IMPOTRIVA TRAFICULUI DE DROGURI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c000"/>
                </a:solidFill>
                <a:latin typeface="Corbel"/>
              </a:rPr>
              <a:t>Filme You tube:</a:t>
            </a:r>
            <a:r>
              <a:rPr b="0" lang="ro-RO" sz="2100" spc="-1" strike="noStrike">
                <a:solidFill>
                  <a:srgbClr val="ffc000"/>
                </a:solidFill>
                <a:latin typeface="Corbel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c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ffc000"/>
                </a:solidFill>
                <a:latin typeface="Corbel"/>
              </a:rPr>
              <a:t>http://www.youtube.com/watch?v=zkJNnqhfl9s&amp;feature=related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ffffff"/>
                </a:solidFill>
                <a:uFillTx/>
                <a:latin typeface="Corbel"/>
              </a:rPr>
              <a:t>http://www.youtube.com/watch?v=pV0N5Y0e4YQ&amp;NR=1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ffffff"/>
                </a:solidFill>
                <a:uFillTx/>
                <a:latin typeface="Corbel"/>
              </a:rPr>
              <a:t>http://www.youtube.com/watch?v=b9yMy096VuI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ffffff"/>
                </a:solidFill>
                <a:uFillTx/>
                <a:latin typeface="Corbel"/>
              </a:rPr>
              <a:t>http://www.youtube.com/watch?v=WNgMowg-oNY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ffffff"/>
                </a:solidFill>
                <a:uFillTx/>
                <a:latin typeface="Corbel"/>
              </a:rPr>
              <a:t>http://www.youtube.com/watch?v=m56Wl9WK1RE&amp;feature=related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ffffff"/>
                </a:solidFill>
                <a:uFillTx/>
                <a:latin typeface="Corbel"/>
              </a:rPr>
              <a:t>http://www.youtube.com/watch?v=dmfJgkHYyoo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 u="sng">
                <a:solidFill>
                  <a:srgbClr val="ffffff"/>
                </a:solidFill>
                <a:uFillTx/>
                <a:latin typeface="Corbel"/>
              </a:rPr>
              <a:t>http://www.youtube.com/watch?v=xyiugl3xIdo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INCLUDE: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clav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unca fortat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ploatarea sexuala in scopuri comercial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Violent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gresiunea fizica si psihica a persoane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ctivitati ilicite (furturi marunte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ersetori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relevarea de orga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In Romania </a:t>
            </a: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u fost identificate anual sute de victime ale traficului de persoan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 numar important de victime identificate au fost copii traficat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 in scopuri de munca fortata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si/ pentru prostitutie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-  multi copii si tineri sunt dati disparuti;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rbel"/>
              </a:rPr>
              <a:t>TRAFICANTII RECRUTEAZA PRIN:</a:t>
            </a:r>
            <a:br>
              <a:rPr sz="4000"/>
            </a:br>
            <a:endParaRPr b="0" lang="en-US" sz="40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opuneri directe facute de catre cunostinte, prieteni, rude, vecini, necunoscuti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nunturi la mica publicita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Oferte false de locuri de munca, de burse sau de stagii de practic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ezentarea unor “povesti de succes” sau a unor oferte impresionante, nejustifica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ploatarea unor situatii de vulnerabilitate (minorat, boala psihica, mama singura, handicap, somaj)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ropuneri false de casatori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Rapi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72880"/>
            <a:ext cx="82296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f0e8d5"/>
                </a:solidFill>
                <a:latin typeface="Corbel"/>
              </a:rPr>
              <a:t>Creşterea gradului de libertate a circulaţiei cetăţenilor români</a:t>
            </a:r>
            <a:endParaRPr b="0" lang="en-US" sz="36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2060640"/>
            <a:ext cx="2514600" cy="39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Corbel"/>
              </a:rPr>
              <a:t>a dus la o creştere a vulnerabilităţii acestora în faţa unor oferte de muncă aparent mai avantajoase, în spatele cărora se ascund reţele de trafic de persoan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3429000" y="1434960"/>
            <a:ext cx="5486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orbel"/>
              </a:rPr>
              <a:t>. În aceste condiţii devine extrem de importantă diseminarea de informaţii utile către grupurile cele mai vulnerabile, tinerii absolvenţi, şomerii sau cei cu risc de a-şi pierde locul de muncă.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e8d5"/>
                </a:solidFill>
                <a:latin typeface="Corbel"/>
              </a:rPr>
              <a:t>Politia si agentiile nonguvernamentale organizeaza campanii </a:t>
            </a:r>
            <a:r>
              <a:rPr b="0" lang="ro-RO" sz="3600" spc="-1" strike="noStrike">
                <a:solidFill>
                  <a:srgbClr val="f0e8d5"/>
                </a:solidFill>
                <a:latin typeface="Corbel"/>
              </a:rPr>
              <a:t>de informare asupra </a:t>
            </a:r>
            <a:r>
              <a:rPr b="0" lang="en-US" sz="3600" spc="-1" strike="noStrike">
                <a:solidFill>
                  <a:srgbClr val="f0e8d5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f0e8d5"/>
              </a:solidFill>
              <a:latin typeface="Corbe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234936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Corbel"/>
              </a:rPr>
              <a:t>pericolelor exploatării prin muncă forţată, în perioada în care tinerii absolvenţi, şomerii şi nu numai, îşi caută un loc de muncă prin </a:t>
            </a:r>
            <a:r>
              <a:rPr b="0" lang="ro-RO" sz="3000" spc="-1" strike="noStrike">
                <a:solidFill>
                  <a:srgbClr val="ff0000"/>
                </a:solidFill>
                <a:latin typeface="Corbel"/>
              </a:rPr>
              <a:t>intermediul internetului </a:t>
            </a:r>
            <a:r>
              <a:rPr b="0" lang="ro-RO" sz="3000" spc="-1" strike="noStrike">
                <a:solidFill>
                  <a:srgbClr val="ffffff"/>
                </a:solidFill>
                <a:latin typeface="Corbel"/>
              </a:rPr>
              <a:t>şi sunt dispuşi să accepte orice ofertă de lucru, fără a se informa în prealabil. </a:t>
            </a:r>
            <a:br>
              <a:rPr sz="3000"/>
            </a:br>
            <a:r>
              <a:rPr b="0" lang="ro-RO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3" descr=""/>
          <p:cNvPicPr/>
          <p:nvPr/>
        </p:nvPicPr>
        <p:blipFill>
          <a:blip r:embed="rId1"/>
          <a:stretch/>
        </p:blipFill>
        <p:spPr>
          <a:xfrm>
            <a:off x="1542960" y="-1195560"/>
            <a:ext cx="7508880" cy="132876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71640" y="404640"/>
            <a:ext cx="777240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e5dc"/>
                </a:solidFill>
                <a:latin typeface="Corbel"/>
              </a:rPr>
              <a:t>Atentie,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  <a:p>
            <a:pPr marL="374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e5dc"/>
                </a:solidFill>
                <a:latin typeface="Corbel"/>
              </a:rPr>
              <a:t>Internetul poate fi si o capcana!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2" descr="C:\Users\Miki\Pictures\images.jpg"/>
          <p:cNvPicPr/>
          <p:nvPr/>
        </p:nvPicPr>
        <p:blipFill>
          <a:blip r:embed="rId2"/>
          <a:stretch/>
        </p:blipFill>
        <p:spPr>
          <a:xfrm>
            <a:off x="971640" y="2205000"/>
            <a:ext cx="6775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2" descr="C:\Users\Miki\Pictures\poster.jpg"/>
          <p:cNvPicPr/>
          <p:nvPr/>
        </p:nvPicPr>
        <p:blipFill>
          <a:blip r:embed="rId1"/>
          <a:stretch/>
        </p:blipFill>
        <p:spPr>
          <a:xfrm>
            <a:off x="1816200" y="549360"/>
            <a:ext cx="527688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14:48:42Z</dcterms:created>
  <dc:creator/>
  <dc:description/>
  <dc:language>en-US</dc:language>
  <cp:lastModifiedBy/>
  <dcterms:modified xsi:type="dcterms:W3CDTF">2011-06-10T14:55:34Z</dcterms:modified>
  <cp:revision>5</cp:revision>
  <dc:subject/>
  <dc:title>TRAFICUL DE PERSOA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8</vt:r8>
  </property>
  <property fmtid="{D5CDD505-2E9C-101B-9397-08002B2CF9AE}" pid="3" name="_Version">
    <vt:lpwstr>12.0.4518</vt:lpwstr>
  </property>
</Properties>
</file>